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gif" ContentType="image/gif"/>
  <Override PartName="/ppt/media/image24.wmf" ContentType="image/x-wmf"/>
  <Override PartName="/ppt/media/image1.jpeg" ContentType="image/jpeg"/>
  <Override PartName="/ppt/media/image27.gif" ContentType="image/gif"/>
  <Override PartName="/ppt/media/image31.jpeg" ContentType="image/jpeg"/>
  <Override PartName="/ppt/media/image32.png" ContentType="image/png"/>
  <Override PartName="/ppt/media/image2.png" ContentType="image/png"/>
  <Override PartName="/ppt/media/image4.jpeg" ContentType="image/jpeg"/>
  <Override PartName="/ppt/media/image8.wmf" ContentType="image/x-wmf"/>
  <Override PartName="/ppt/media/image18.wmf" ContentType="image/x-wmf"/>
  <Override PartName="/ppt/media/image5.jpeg" ContentType="image/jpeg"/>
  <Override PartName="/ppt/media/image11.wmf" ContentType="image/x-wmf"/>
  <Override PartName="/ppt/media/image23.gif" ContentType="image/gif"/>
  <Override PartName="/ppt/media/image7.wmf" ContentType="image/x-wmf"/>
  <Override PartName="/ppt/media/image12.wmf" ContentType="image/x-wmf"/>
  <Override PartName="/ppt/media/image9.wmf" ContentType="image/x-wmf"/>
  <Override PartName="/ppt/media/image10.jpeg" ContentType="image/jpeg"/>
  <Override PartName="/ppt/media/image30.wmf" ContentType="image/x-wmf"/>
  <Override PartName="/ppt/media/image3.jpeg" ContentType="image/jpeg"/>
  <Override PartName="/ppt/media/image14.wmf" ContentType="image/x-wmf"/>
  <Override PartName="/ppt/media/image16.jpeg" ContentType="image/jpeg"/>
  <Override PartName="/ppt/media/image13.wmf" ContentType="image/x-wmf"/>
  <Override PartName="/ppt/media/image17.gif" ContentType="image/gif"/>
  <Override PartName="/ppt/media/image19.jpeg" ContentType="image/jpeg"/>
  <Override PartName="/ppt/media/image29.wmf" ContentType="image/x-wmf"/>
  <Override PartName="/ppt/media/image20.gif" ContentType="image/gif"/>
  <Override PartName="/ppt/media/image6.jpeg" ContentType="image/jpeg"/>
  <Override PartName="/ppt/media/image21.wmf" ContentType="image/x-wmf"/>
  <Override PartName="/ppt/media/image26.gif" ContentType="image/gif"/>
  <Override PartName="/ppt/media/image22.wmf" ContentType="image/x-wmf"/>
  <Override PartName="/ppt/media/image25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96D4-742C-4B8B-90F0-5E7F91D0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21E-1718-4CBB-8F57-71ACECB4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C899-D03B-4030-BB1A-F7931DAD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8D3E-A51C-45B3-B1A6-BE87F09B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D74F-338D-48E4-A877-62B11720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8842-6398-4E06-BD05-27661AF6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871B-DC80-405A-852A-790E7007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19F4-CD7F-496C-92A1-E220E791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EF8-BA44-49A0-A2D3-3116E0F0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3882-B235-496B-BDEF-509B2B91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CFB-EC70-4E49-9FEE-17F5BAA5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987-CBD5-4562-884D-7A4B334D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F520-1DEF-4AE2-AB19-369F3E1BB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Meine Fer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war im SeaWorld geblieben.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ein Buch gelese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2286000" cy="2051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4647960" cy="369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habe in die Strasse spazier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gutes Essen gegesse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886200" y="2286000"/>
            <a:ext cx="2971800" cy="1719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889520" y="4132440"/>
            <a:ext cx="4254480" cy="2725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914400" y="2666880"/>
            <a:ext cx="3124080" cy="26942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Flordia geflim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0" y="3809880"/>
            <a:ext cx="1795320" cy="2743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248520" y="1905120"/>
            <a:ext cx="2895480" cy="2660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5800" y="2666880"/>
            <a:ext cx="3178080" cy="3353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Musik ge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usic"/>
          <p:cNvSpPr/>
          <p:nvPr/>
        </p:nvSpPr>
        <p:spPr>
          <a:xfrm>
            <a:off x="5943600" y="2209680"/>
            <a:ext cx="2514600" cy="4114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4152960" cy="192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2090880" cy="3809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gemach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934320" y="27432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3235320" cy="3581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19720" y="2666880"/>
            <a:ext cx="2431800" cy="259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hat mir gut gefallen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u musst Florida gegange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n Flord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war im Hotel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habe Miami besichtig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bin am See schwimmen gegange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meine Familie besuch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86400" y="1600200"/>
            <a:ext cx="3218040" cy="3765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3699000"/>
            <a:ext cx="3200400" cy="2398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743200" y="1295280"/>
            <a:ext cx="2476440" cy="248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habe die Innenstadt fotografiert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viel Sport gemacht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1995480" cy="2133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666880" y="3809880"/>
            <a:ext cx="2590920" cy="2133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019920" y="4343400"/>
            <a:ext cx="2712960" cy="2019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09480" y="2362320"/>
            <a:ext cx="2286000" cy="1952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Ich war im Museum gesehen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56:07Z</dcterms:created>
  <dc:creator>CUSD220</dc:creator>
  <dc:description/>
  <dc:language>en-US</dc:language>
  <cp:lastModifiedBy>Murphy</cp:lastModifiedBy>
  <dcterms:modified xsi:type="dcterms:W3CDTF">2011-11-20T22:02:56Z</dcterms:modified>
  <cp:revision>4</cp:revision>
  <dc:subject/>
  <dc:title>Ich war in Flordia!</dc:title>
</cp:coreProperties>
</file>